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C8AE-68DA-44B1-8D08-9EF4264C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843A-793F-4132-ABAE-D50C503D2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153D-54AF-449F-A066-AB250564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6689-8552-4281-A9C9-DA1318E4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A4E-943B-45DE-A85A-0827B4AC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E6F8-49C0-48C7-8A85-A4034F43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433-C8BA-4CDC-ADB6-7439F36A1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0CBD-7B7D-4F97-9AD2-0E8288A3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8B31-C97C-4598-9A75-61E9D591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21BC-5F4B-405D-BEB2-C068CF54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FF1C-5A78-416D-979C-7AEC8D47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8BCD-BFFF-4865-9984-694F3B72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E5A0-18CF-4F28-A943-4165E0D99182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KTALAMA İŞARETLER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ygu ve düşünceleri daha açık ifade etmek, cümlenin yapısını ve duraklama noktalarını belirlemek, okumayı ve anlamayı kolaylaştırmak, sözün vurgu ve ton gibi özelliklerini belirtmek üzere noktalama işaretleri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llanılır. Başlıca noktalama işaretleri şunlard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42920" y="214200"/>
            <a:ext cx="88581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in içinde </a:t>
            </a: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, veya, yahut</a:t>
            </a:r>
            <a:r>
              <a:rPr b="0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ağlaçlarından önce de sonra da virgül konmaz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n Atatürk'le iki veya üç defa karşılaştı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in içinde tekrarlı bağlaçlardan önce ve sonra virgül konmaz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m gider hem ağla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a bu deveyi gütmeli ya bu diyardan gitmeli.</a:t>
            </a:r>
            <a:r>
              <a:rPr b="0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</a:t>
            </a:r>
            <a:r>
              <a:rPr b="0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ümlede pekiştirme ve bağlama görevinde kullanılan  </a:t>
            </a: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/ de </a:t>
            </a:r>
            <a:r>
              <a:rPr b="0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ğlacından sonra virgül konmaz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İmlamız, lisanımız düzelince lisanımız da kafamız düzelince düzelecek, çünkü o da ancak onlar kadar bozuktur, fazla değil!                                            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360" y="-3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in içinde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ınca / -ince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lamında zarf-fiil görevinde kullanılan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ı / mi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inden sonra virgül konm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n aç yattım mı kötü kötü rüyalar görürüm nede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in içinde zarf-fiil ekleriyle oluşturulmuş kelimelerden sonra virgül konm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cak yemekte bir karara varıp arkadaşına dikkatli dikkatli bakarak konuştu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art ekinden sonra virgül konm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ör gözlerinle de aklın yatarsa anlatıver mille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1425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KTALI VİRGÜL (;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 içinde virgüllerle ayrılmış tür veya takımları birbirinden ayırmak için konur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rkek çocuklara Doğan, Tuğrul, Aslan, Orhan; kız çocuklara ise İnci, Çiçek, Gönül, Yonca adları verili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ğeleri arasında virgül bulunan sıralı cümleleri birbirinden ayırma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 ölür, meydan kalır; yiğit ölür, şan kal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çerisinde birden fazla virgül kullanılmış cümlelerde öznenin kendinden hemen sonra gelen öğelere karışmamasını sağlama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ruk; Kenan, Hulusi ve Mustafa ile yaşıt sayılı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Kİ NOKTA (: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ndisinden sonra örnek verilecek cümlenin sonu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ni harfler alındıktan sonra eski yazı ile bir tek kelime bile yazma yan iki kişi görmüşümdür: Atatürk ve İnönü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 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ndisinden sonra açıklama yapılacak cümlenin sonu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 kararın istinat ettiği en kuvvetli muhakeme ve mantık şu idi: Esas, Türk milletinin haysiyetli ve şerefli bir millet olarak yaşamasıd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 biliminde uzun ünlüyü göstermek için kullanılır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:ile, ka:til, usu:le, i:c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-360" y="-3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Ç NOK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amlanmamış cümlelerin sonu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 çare ki çirkinliği  hemencecik ve herkes                                                                      tarafından görülüyordu da,   bu yanı…                                                                             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ba sayıldığı için veya bir başka sebepten ötürü açıklanmak istenmeyen kelime ve bölümlerin yerine konur: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ılavuzu karga olanın burnu b...tan çıkm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ıntılarda; başta, ortada ve sonda alınmayan kelime ve bölümlerin yerine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.. derken şehrin öte başından boğuk boğuk sesler gelmeye başladı...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özün bir yerde kesilerek geri kalan bölümün okuyucunun hayal dünyasına bırakıldığını göstermek veya ifadeye güç katma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na uğurlar olsun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takım sorunlar, durumlar ve örnekler sayılırken daha başkaları olduğunu göstermek için kullanıl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ler, arabalar, yatlar, katlar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nlem ve seslenmelerde anlamı pekiştirme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Koca Ali…Koca Ali!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şılıklı konuşmalarda, yeterli olmayan, eksik bırakılan cevaplarda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imsi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i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ngi Al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..           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 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ç nokta yerine iki veya daha çok nokta kullanılm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İŞARETİ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bildiren cümle veya sözlerin sonu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 zaman tükenecek bu yollar, arabacı?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zı cümleler de soru kelimesi barındırmadığı hâlde soru cümlesidir. Bunlar soru işareti ile biter. Bu cümlelerin soru anlamı vurgu ve tonlama ile belirtil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aşınız?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n alacaktın?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ördü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inmeyen, kesin olmayan veya şüpheyle karşılanan yer, tarih vb. durumlar için kullanılı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unus Emre (1240?-1320), (Doğum yeri: ?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-3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ı / mi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i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ınca / -ince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lamında zarf-fiil işleviyle kullanıldığında soru işareti konmaz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şam oldu mu sürüler döner. Hava karardı mı eve gideri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ifadesi taşıyan sıralı ve bağlı cümlelerde soru işareti en so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ok yakından mı bu sesler, çok uzaklardan mı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NLEM İŞARETİ (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inç, kıvanç, acı, korku, şaşma gibi duyguları anlatan cümlelerin sonu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 mutlu Türk’üm diyene!                  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şk olsu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lenme, hitap ve uyarı sözlerinden sonr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dular! İlk hedefiniz Akdeniz, ileri!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y, kinaye veya küçümseme anlamı kazandırılmak istenen sözden hemen sonra yay ayraç içinde ünlem işareti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İsteseymiş bir günde bitirirmiş (!) ama ne yazık ki vakti yokmuş (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8360" y="260280"/>
            <a:ext cx="8424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KTA (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nin sonuna konur. Nokta, duraklama yapılacağını bildir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 Dil Kurumu, 1932 yılında kurulmuşt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el isim veya unvan olan bir kelime birkaç harfle kısaltılıyorsa yalnız ilk harf büyük yazılır ve sonuna nokta konulur. Buna karşılık kurum, kuruluş isimlerinin kısaltmalarında nokta kullanılm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f., İst., Doç., Dr., Av., Al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BMM, BM, AB</a:t>
            </a:r>
            <a:br>
              <a:rPr sz="2800"/>
            </a:b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nlem işareti, seslenme ve hitap sözlerinden hemen sonra konulabileceği gibi cümlenin sonuna da konabil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kadaş, biz bu yolda türküler tutturur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na uğurlar olsun... Ayrılıyor yolumuz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nlemden sonra üç nokta yerine iki nokta konulması yeterlid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ök ekini biçer gibi!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-360"/>
            <a:ext cx="91058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SA ÇİZGİ (-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ıra sığmayan kelimeler bölünürken satır sonuna kon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ğuktan mı titriyordum, yoksa heyecandan, üzüntüden mi bil-  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 sözleri ve ara cümleleri ayırmak için kullanılı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üçük bir sürü -dört inekle birkaç koyun- köye giren geniş yolun ağzında durmuştu.             </a:t>
            </a:r>
            <a:r>
              <a:rPr b="0" lang="tr-TR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                                      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 bilgisinde kökleri ve ekleri ayırmak için kon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-ış, dur-ak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il kök ve gövdelerini göstermek için kullanılır: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-, dur-, gör-, ver-; başar-, kana-, okut-, taşla-, yazdır-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lerin başına konur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ak, -den, -ış, -lık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celeri göstermek için kullanılır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-raş-tır-ma, bi-le-zik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imeler arasında 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ve, ile, ila, arasında”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lamlarını vermek için kullanılır: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çe-Fransızca Sözlük, Aydın-İzmir yolu, Ankara-İstanbul uçak seferleri, Türk-Alman ilişkileri, Ural-Altay dil grubu,  09.30-10.30, Beşiktaş-Fenerbahçe karşılaşması, 1914-1918 Birinci Dünya Savaşı, 2003-2004 öğretim yıl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-360" y="-360"/>
            <a:ext cx="89298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alibri"/>
              </a:rPr>
              <a:t>UZUN ÇİZGİ (—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Yazıda satır başına alınan konuşmaları göstermek için kullanılır. Buna </a:t>
            </a:r>
            <a:r>
              <a:rPr b="1" i="1" lang="tr-TR" sz="2400" spc="-1" strike="noStrike">
                <a:solidFill>
                  <a:srgbClr val="000000"/>
                </a:solidFill>
                <a:latin typeface="Calibri"/>
              </a:rPr>
              <a:t>konuşma çizgisi</a:t>
            </a: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 de den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Frankfurt'a gelene herkesin sorduğu şudu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— </a:t>
            </a: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Eski şehri gezdin mi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ff0000"/>
                </a:solidFill>
                <a:latin typeface="Comic Sans MS"/>
              </a:rPr>
              <a:t>    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                                           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alibri"/>
              </a:rPr>
              <a:t>UYARI :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onuşmalar tırnak içinde verildiğinde uzun çizgi kullanılma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ĞİK ÇİZGİ ( /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n yana yazılması gereken durumlarda mısraların arası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orkma! Sönmez bu şafaklarda yüzen al sancak / Sönmeden yurdumun üstünde tüten en son ocak / O benim milletimin yıldızıdır parlayacak / O benimdir o benim milletimindir ancak.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                     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 yazarken apartman numarası ile daire numarası arasına ve semt ile şehir arasına konu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ay Sokağı, Nu.: 21/6  Kurtuluş / ANKA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-3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ihlerin yazılışında gün, ay ve yılı gösteren sayıları birbirinden ayırma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/11/196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 bilgisinde eklerin farklı biçimlerini göstermek için kullanılır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a/-e, -an /-en, -lık /-lik, -madan /-med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RNAK İŞARETİ (“ 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şka bir kimseden veya yazıdan olduğu gibi aktarılan sözler tırnak içine alın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lu önderin “Ne mutlu Türk’üm diyene!” sözü her Türk'ü duygulandır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el olarak belirtilmek istenen sözler tırnak içine alını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ni bir “barış taarruzu” başlad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 içerisinde kitapların ve yazıların adları ve başlıkları tırnak içine alın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ahya Kemal'in bazı şiirleri “Kendi Gök Kubbemiz” adı altında çıkt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ırnak içindeki alıntının sonunda bulunan işaret (nokta, soru işareti, ünlem işareti vb.) tırnak içinde kalı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ıl yaşta değil baştadır.” atasözünü duydun mu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ırnak içine alınan sözlerden sonra kesme işareti kullanılmaz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ahya Kemal’in “Aziz İstanbul”unu okudunuz m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K TIRNAK İŞARETİ ( ‘ ’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ırnak içinde verilen ve yeniden tırnağa alınması gereken bir sözü belirtme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ebiyat öğretmeni “Şiirler içinde ‘Han Duvarları’ gibisi var mı?” ded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Y AYRAÇ (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nin yapısıyla doğrudan doğruya ilgili olmayan açıklamalar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adolu kentlerini, köylerini (Köy sözünü de çekinerek yazıyorum.) gezsek bile görmek için değil, kendimizi göstermek için geziyoru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ıntıların aktarıldığı eseri veya yazarı gösterme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ıyametler koparmak neydi ey bülbül, nedir derdin?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ehmet Akif Erso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115560"/>
            <a:ext cx="835164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yılardan sonra sıra bildirmek için nokta konu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, 15., 20…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ıra sayıları ekle gösterildiğinde rakamdan sonra sadece kesme işareti ve ek yazılır; ayrıca nokta konmaz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.'inci değil 8'inci, 2.'nci değil 2'nci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YARI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Arka arkaya sıralandıkları için virgülle veya çizgiyle ayrılan rakamlardan  yalnızca  sonuncu  rakamdan sonra  nokta 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, 4 ve 7. madde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II – XIV. yüzyıl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söze alay, kinaye veya küçümseme anlamı kazandırmak için kullanılan ünlem işareti yay ayraç içine alını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bilginin şüpheyle karşılandığını veya kesin olmadığını göstermek için kullanılan soru işareti de yay ayraç içine alını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İsteseymiş bir günde bitirirmiş (!) ama ne yazık ki vakti yokmuş (!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unus Emre (1240?- 1320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y ayraç içinde bulunan özel isimler ve yargı bildiren anlatımlar büyük harfle başlar ve sonuna uygun noktalama işareti getirili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kkında açıklama yapılan söze ait ek, ayraç kapandıktan sonra yazılı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unus Emre (1240?- 1320)’ nin eserleri okunmalı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-3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ŞELİ AYRAÇ [ 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yraç içinde ayraç kullanılması gereken durumlarda yay ayraçtan önce köşeli ayraç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likarnas Balıkçısı [Cevat Şakir Kabaağaçlı (1886-1973)] en güzel eserlerini Bodrum'da yazmışt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yografik künyelere ilişkin bazı ayrıntıları gösterme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şat Nuri [Güntekin], Çalıkuşu, Dersaadet, 192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425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SME İŞARETİ ( ’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el adlara getirilen iyelik, durum ve bildirme ekleri kesme işaretiyle ayr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tih Sultan Mehmet’e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iye Cumhuriyeti’ni, 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ah’ın, Asya’nın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rmara Denizi’nden, Dolmabahçe Sarayı’nın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tuk’ta, Safahat’tan, Sarıkız’ı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şi adlarından sonra gelen saygı sözlerine getirilen ekleri ayırma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ihat Bey’e, Ayşe Hanım’dan, Mahmut Efendi’ye, Enver Paşa’ya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v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0" y="-3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ısaltmalara getirilen ekleri ayırmak için konu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BMM'nin, TDK'nin, BM'de, ABD'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ek veya harften sonra gelen ekleri ayırmak için konur: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'dan z'ye kadar, b'nin m'ye dönüşmesi, Türkçede -lık'la yapılmış sözl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142920"/>
            <a:ext cx="91440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onunda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, ç, t, k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ünsüzlerinden biri bulunan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met, Çelik, Çiçek, Halit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bi özel adlara ünlüyle başlayan ek getirildiğinde kesme işaretine rağmen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medi, Çeliği, Çiçeği, Halidi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içiminde son ses yumuşatılarak söylen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Özel adlar yerine kullanılan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o"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zamiri cümle içinde büyük harfle yazılmaz ve kendisinden sonra gelen ekler kesme işaretiyle ayrılm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Kurum, kuruluş, kurul ve iş yeri adlarına gelen ekler kesmeyle ayrılm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iye Büyük Millet Meclisine, Türk Dil Kurumunda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Özel adlara getirilen yapım ekleri, çokluk eki ve bunlardan sonra gelen diğer ekler kesmeyle ayrılmaz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nisalı,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Türklük, Türkleşmek, Türkçü, Türkçülük, Türkç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vanlardan sonra gelen ekler kesmeyle ayrılmaz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mhurbaşkanınca, Başbakanca, Türk Dil Kurumu Başkanına göre 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onunda nokta bulunan kısaltmalarla üs işaretli kısaltmalar kesmeyle ayrılmaz. Bu tür kısaltmalarda ek noktadan ve üs işaretinden sonra,  kelimenin ve üs işaretinin okunuşuna uygun olarak yaz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b.leri, Alm.dan,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²ye 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etre kareye)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kım, çağ ve dönem adlarından sonra gelen ekler kesmeyle ayrılm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ski Çağın, Yükselme Dönemini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56800" y="981000"/>
            <a:ext cx="7572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ynakç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SARAYLI, İsmail (2007), Yükseköğretim Öğrencileri İçin Türk Dili, Manisa: Emek Matbaacılı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ER, Süer(2003), Çağdaş Türk Dili, Ankara: Akçağ  Yayınları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İROSMANOĞLU, Ali, Türkçe-Kompozisyon, Emek Matbaası, Manisa 2006</a:t>
            </a: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ÜNEŞ, Sezai(2004), Türk Dili Bilgisi, İzmir: Çağlayan Matbaas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SOY Yakup, vd. (2001), Üniversiteler İçin Türk Dili ve Kompozisyon Bilgileri, Konya: Selçuk Üniversitesi Yaşatma ve Geliştirme Vakfı Yayınları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ayt Numarası Yer Tutucus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C454-A969-4D52-8A25-0EDC3AA642EF}" type="slidenum">
              <a:rPr b="0" lang="tr-TR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ihlerin yazılışında gün, ay ve yılı gösteren sayıları birbirinden ayırmak için konu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.5.1453, 29.10.19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YARI: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ihlerde ay adları yazıyla da yazılabilir. Bu durumda ay adlarından önce ve sonra nokta kullanılmaz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 Mayıs 1453, 29 Ekim 19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at ve dakika gösteren sayıları birbirinden ayırmak için konu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n 09.15'te kalktı.   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yografik künyelerin sonuna konu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âh Sırrı Levend, Türk Dilinde Gelişme ve Sadeleşme Evreleri, TDK Yayınları, Ankara, 196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İRGÜL (,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biri ardınca sıralanan eş görevli kelime ve kelime gruplarının arası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ırtınadan, soğuktan, karanlıktan korkarı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ssiz dereler, solgun ağaçlar, sarı güller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ıralı cümleleri birbirinden ayırmak için konu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r varmış, bir yokmuş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mduk, bekledik, düşündük.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 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un cümlelerde yüklemden uzak düşmüş olan öğeleri belirtme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niye Hanımefendi, merdivenlerde oğlunun ayak seslerini duyar duymaz, hasretlisini karşılamaya atılan bir genç kadın gibi, koltuğundan fırlamış ve ona kapıyı kendi eliyle açmaya gelmiş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                                               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Yakup Kadri Karaosmanoğl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 içinde ara sözleri ve ara cümleleri ayırma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Şimdi, efendiler, müsaade buyurursanız, size bir sual sorayı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lama güç kazandırmak için tekrarlanan kelimeler arası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şam, yine akşam, yine akşam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ırnak içinde olmayan aktarma cümlelerinden sonra konu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tça'ya yarın gideceğim, ded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ndisinden sonraki cümleye bağlı olarak ret, kabul ve teşvik bildiren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“hayır, yok, evet, peki, pekâlâ, tamam, olur, hayhay, başüstüne, öyle, haydi, elbette”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bi kelimelerden sonra konur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ki, gideriz. Olur, ben de size katılırım. Hayhay, memnun oluruz. Haydi, geç kalıyoru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kelimenin kendisinden sonra gelen kelime veya kelime gruplarıyla yapı ve anlam bakımından bağlantısı olmadığını göstermek ve anlam karışıklığını önleme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 gece, eğlenceleri içlerine sinmedi.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tap için kullanılan kelimelerden sonra konur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fendiler, bilirsiniz ki hayat demek, mücadele, müsademe demekt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yın Başkan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vgili Kardeşim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yografik künyelerde yazar, eser, basımevi vb. maddelerden sonr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lih Rıfkı Atay, Tuna Kıyıları, Remzi Kitabevi, İstanbul, 193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1T17:23:39Z</dcterms:created>
  <dc:creator>pc</dc:creator>
  <dc:description/>
  <dc:language>en-US</dc:language>
  <cp:lastModifiedBy>Mehmet</cp:lastModifiedBy>
  <dcterms:modified xsi:type="dcterms:W3CDTF">2014-11-28T10:57:55Z</dcterms:modified>
  <cp:revision>43</cp:revision>
  <dc:subject/>
  <dc:title>NOKTALAMA İŞARETLERİ</dc:title>
</cp:coreProperties>
</file>